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C81-2413-45C9-924E-78125596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706-F48C-4C52-9CA8-B05F333D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EB4-0B12-406E-B5C3-82A55295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0E0-DE07-4760-B0E2-3049E1A1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066-07E4-4376-A30C-CB8E3549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078-844A-4EC2-BE32-3158CBD9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4B0-C92B-4C80-BD50-901C8CF1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3E0-7FF1-4E59-B3B8-902CA49E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CD3-7505-4DA9-B9D3-9209450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0C4-917A-4AFA-91DE-75E3ED5A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A3A-3C2D-4E6C-B195-C7B86C3E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7C6-7EBD-485A-820D-C50171BF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7D5B-C99B-43D3-A501-AC1CB454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REFLEC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you feel better about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makes you feel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make someone feel be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xpress yourself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your favourite role model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pretended to be somebody you’re not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go for excitement and where do you go to find peace and quie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prefer an exciting or a peaceful lif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your life 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last thing you 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people get from r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scape from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your sanctu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 go to for suppor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go to rela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echnology mean to you and how would you cope withou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role in the univers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do you take for granted and what could you do for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0:45:19Z</dcterms:created>
  <dc:creator>staff</dc:creator>
  <dc:description/>
  <dc:language>en-US</dc:language>
  <cp:lastModifiedBy>staff</cp:lastModifiedBy>
  <dcterms:modified xsi:type="dcterms:W3CDTF">2010-06-03T10:45:42Z</dcterms:modified>
  <cp:revision>1</cp:revision>
  <dc:subject/>
  <dc:title>  REFLECTION</dc:title>
</cp:coreProperties>
</file>