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F74B-500F-4FEE-89CD-01D3B975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ADD8-DF01-485C-B5A0-B906E0A1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51F3-5A60-4237-9542-17EA75AB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E32D-DA6E-4456-AE2E-C12B0747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49F8-AE26-46E2-A0C2-6895D899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7D1-5604-42FC-B2F0-F1DA5C60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BF2E-DCB4-4CDA-8D6C-2E33C8B2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3459-CFA4-4A72-8C2E-FC6499EE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E206-EFEF-4C8B-B58A-4F3A9F62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BE2-E722-4417-B349-8FF0D63B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1AC3-4DE1-46C2-BD3F-EFF8A8A1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1780-2917-4F18-AED8-16DB8540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E251-C985-407C-9D58-95443ED9E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you feel better about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makes you feel b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make someone feel b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express yourself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your favourite role model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pretended to be somebody you’re not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go for excitement and where do you go to find peace and quiet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prefer an exciting or a peaceful lif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your life lea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last thing you 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people get from rea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escape from the worl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your sanctu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o you go to for support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go to rela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echnology mean to you and how would you cope withou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role in the univers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o you take for granted and what could you do for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0:45:19Z</dcterms:created>
  <dc:creator>staff</dc:creator>
  <dc:description/>
  <dc:language>en-US</dc:language>
  <cp:lastModifiedBy>staff</cp:lastModifiedBy>
  <dcterms:modified xsi:type="dcterms:W3CDTF">2010-06-03T10:45:42Z</dcterms:modified>
  <cp:revision>1</cp:revision>
  <dc:subject/>
  <dc:title>  REFLECTION</dc:title>
</cp:coreProperties>
</file>