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6143-DB7F-4AB5-9B26-A536C333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2BF-E835-405F-B936-C017948F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0FBF-BC1F-458A-8F49-1577B8A7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F18-5DF6-444E-B173-09FF9DC9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3768-4F02-41DB-9215-A7D36486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69F3-A4B6-4722-86D0-2903EBA7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71E5-5F94-481B-9EA0-F1DFCF34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26B-DEB6-4B90-9989-E66190EE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3A4C-B7B9-44E1-89B8-B93F9A69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549B-FB16-4364-ADBD-B2A2F62A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3E9A-4FA4-44EE-ABA8-B8876AC2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7BAB-9B8A-4B4A-B5E1-4658C079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EF6E-6A4C-4BEC-83C4-709BEED0B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you feel better about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makes you feel b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make someone feel b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express yourself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your favourite role model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pretended to be somebody you’re not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you go for excitement and where do you go to find peace and quiet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prefer an exciting or a peaceful lif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your life lea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last thing you 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people get from rea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escape from the worl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your sanctu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do you go to for support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you go to rela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echnology mean to you and how would you cope withou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role in the univers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do you take for granted and what could you do for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0:45:19Z</dcterms:created>
  <dc:creator>staff</dc:creator>
  <dc:description/>
  <dc:language>en-US</dc:language>
  <cp:lastModifiedBy>staff</cp:lastModifiedBy>
  <dcterms:modified xsi:type="dcterms:W3CDTF">2010-06-03T10:45:42Z</dcterms:modified>
  <cp:revision>1</cp:revision>
  <dc:subject/>
  <dc:title>  REFLECTION</dc:title>
</cp:coreProperties>
</file>